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F38-EC93-45D3-ADED-E5A8B660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A53-548A-41D3-B856-7B80020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08D-D9FA-4DA9-92B9-B8C76C9E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457-6276-47EE-B5EF-93D36B50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F2C0-AFB5-4D9C-9A31-303094A0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FF0B-19F8-48E4-9B00-6AD2ECE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8C6A-F1E5-4883-B07B-7D58E657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FA63-3A32-4FF6-A785-1D80D14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C26D-860B-419F-BAAD-06C7C73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A7E-FC73-4513-BAA0-64CB32F5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8F3C-EC0C-4D18-874B-791085D4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5AB-EB8A-42A0-8DE0-8621AA8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CB1-B345-435C-809F-31F9A1E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4EC-0D7D-458C-AAEB-6BC232C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8060-3092-437F-A6EE-780AFE4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590A-8F27-4CE1-BE49-9C8AAA3B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CA7C-5D4C-48EE-952D-30071FC8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C4E-E4D8-44BA-8042-585BD8DA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052-796E-4EE1-941F-B7F9BCF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C45-9DFA-462B-934C-7840D63D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ECD-D331-4C0E-B8CE-AD3A364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B52-69B2-48BB-A731-803F258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CC7-566A-400A-B557-0550E85E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577-5F5C-460C-8DDE-5EB91788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993-47B5-43B0-A459-877119A0C1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FA4-0FA1-4092-8785-1F22A36C8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-трубоукладч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бора крана-трубоукладчик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ого крана-трубоукладчика в видах сбоку, спереди и в плане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ка грузоподъемности выбранного крана-трубоукладч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аны-трубоукладчики выбираются из списка техники. На чертеже можно построить изображения выбранного трубоукладчика в различных проекциях, а также график грузоподъем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311560" y="952560"/>
            <a:ext cx="461304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160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крана-трубоукладчика на чертеже в различных проекциях и графика грузоподъем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35160" y="1603440"/>
            <a:ext cx="54198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8:25Z</dcterms:modified>
  <cp:revision>239</cp:revision>
  <dc:subject/>
  <dc:title>Слайд 1</dc:title>
</cp:coreProperties>
</file>